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4038-C0E5-43F0-8F0A-ACEA4943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B900-3627-4F02-9AB4-C723DC5C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AA6D3-D2D2-4FD3-A2A4-CD153F4F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18578-8B9D-4C09-B619-EDA723B5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DBE1A-C8CC-43CD-88B8-D8BEAAF0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8F6A8-11A0-4128-908B-B4CC58C3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B44DD-FDE5-4C6D-BF54-DEC98AB0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6109F-D4AD-4063-BD1C-91A76809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A0EDB-970F-491E-8DB6-FFDF5018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85186-06DB-4F21-AFFF-F05067AA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97B7E-4D1C-495F-AA36-C91AE599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315C6-0DD8-4093-8F4D-DE836D7D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49F-92B3-400E-8A47-6595311C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DF46A-FADB-4AC7-8037-33C2084E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248BA-110A-45CD-A0F0-A91EC207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FE183-7969-4999-AD20-267AF599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1A0E6-008F-4F16-9CD2-6148F406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64981-4DD3-4578-8A2F-8FB298A3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6B846-C7E2-4980-AA0A-D6CE025A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EE736-1CAC-46D3-9733-A02CE43E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A6027-6594-4B47-ADA7-22C02960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D8401-D3A7-4197-B863-12CDCD24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E4580-39FF-448E-A5C5-9818FD33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19FC-67C8-493B-AAD2-AF34A6C7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0CCE7-3A2D-4CEC-B6FF-A83AC146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29271-FD18-4F3D-8C72-365CD55D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951C4-285C-44EA-A44A-D0515249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0D22C-0382-4891-8FCA-F3334F1B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E216F-32A1-41D4-A4FD-43B0282D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83DE5-2814-48EE-A4CC-DA59B406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D13B1-70C8-47DB-BF8D-E85B3190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75DE8-7FB0-4E88-88B6-AD9D0894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3ACA1-7E7D-4113-8870-0153610B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17D71-DE0F-4DF5-ABC0-4B6BBEB6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E3DF-0AE6-4FEE-A62B-EBBA1243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3635B-5192-45FE-9E3F-3FFDE4B1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4CC18-37D9-4313-8C1D-C447ACB8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ADEF0-1C3A-4C46-A877-38419197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F35D0-3D48-4742-B2F8-0A314249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63F7A-40E8-4407-AC9E-23A59323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ECDE1-C692-4F2C-9FEF-CCC3D14E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591B5-7023-40DD-9F0D-0C5D2749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DB855-622B-42A1-8D22-B6655582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03407-4BF3-4300-A4DA-93430850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3A0ED-593F-4EA2-93FA-9173EF5A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E26E-3F7B-4F50-A5B1-EFE48DDB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926FD-654C-486A-B5AC-CAB205F4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002D0-69CA-44C5-A4C0-6D1E8E1E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F2F95-F2A3-4D20-B8A4-66FAC5E5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E7CAE-36FD-447A-BB93-A9EFCCF7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F1BC7-9655-4139-A79E-21BCAAB3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98D47-23D9-4F7C-91EA-A4E5F978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B1AE37-6946-4BBD-AF2E-F9EFFA19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4E6CE6-8EA9-48D1-8EA7-140951A5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A299E8-AEFA-4BD3-885F-E2F6F84F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8D4BA-9981-46B1-AAB9-D0E5ACD2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7DA6-9C4C-450B-99D5-7DED610E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64D3A3-79B5-4118-81D3-23859C0D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3811DE-2ED7-4DAA-A412-1F559B3C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A6E11E-086A-4048-9385-3A524B26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4A5736-2152-4BE7-A5BF-20F5B69C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1EE657-437A-4E55-B064-24A9885F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F75778-9F04-40A6-BBC9-1FD98C73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DE3347-B0B0-4795-BA39-8F5FFECF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54117C-8DA8-43D7-B38E-C9508584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8C5764-B500-446F-B848-701439D7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AB785A-1000-4AF9-A9B8-572E560A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4224-42DE-4535-A88F-D2B9C946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A37947-8276-497D-8C4F-596BA313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74F755-BA45-46EE-8D5E-5635EDB4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96B340-9400-46E2-8D4F-A30E1C54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6C0992-C032-4E17-85FC-64CE3DB4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06A83F-47AB-49AA-AAD0-4635BFDF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AA00A0-3782-4F4F-BA03-AAE8C9BE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08A9B5-4F74-4A2E-8BC0-37104B6F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928946-177A-4D1B-88C6-4089A217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7EB691-30B1-4C44-ABB7-C8868402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4A81BD-6577-444C-899C-AFB76E08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0C6D-A1CA-4D26-8F64-BDDBBDC4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DD7318-0C95-46E3-BF6A-3DB4DAA3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7C3B2B-E3E3-40D3-AFF2-300A1737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EEFB4B-4ABB-431A-99DC-0B2378B1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E89540-E30A-404E-8C62-860F93B4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753184-4DDD-4A2D-AD1E-0BD40C7A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E2D480-E3DA-4C00-89EB-B9339F15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289788-F223-4733-A42F-882AD54F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47F148-AEAF-40C2-84B5-71E68028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5EA8AF-BE56-4F4F-B96F-4B2EC1C9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8C9FA1-0CCF-4166-8680-676FA541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EBA5-7D8C-4053-9091-F5F041B6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50ED81-1B8C-4686-82B0-18C73FFC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946B9D-C553-425A-8B2F-B89A4C76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928B78-852A-47B1-ADE8-544CF515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A68EBF-31A3-48AF-AE5F-3EF2FF6A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89BA4C-D843-4725-91B7-D36C1DF1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8B8300-CBE1-4616-BB8C-210A4D0E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505F98-6935-4697-A6EE-BBDC70AB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B4AE6B-46DF-4C7E-99C2-3C9F230B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DB3F8E-F598-4BD6-AFFE-4E24C1F5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2802F5-D7B9-4D6D-AD0B-9AAF7830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5CCA-A510-4BB2-9453-1F990D2D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9BBFF2-F9F1-4216-BFCC-CB5927B7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AA4259-BC3F-4267-96F2-CD4451D9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E1D6D5-F73F-40D9-9CFA-7E5133F9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850D98-9228-458A-AAD9-B7C18DE2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D673D0-3544-4BC2-B8D5-F2548BA2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12CEF5-FF69-4C3E-97AF-7F688E27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6CC6B3-567C-4A57-A781-CEDC946C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0F996C-F59D-4AD6-9C83-06F32C82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72B15A-8AD2-4538-A7C9-2D33593A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4B82D8-5C1E-442D-8E6C-43D8EB99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0BB7-D580-4D14-9EFE-0FC9191D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31EE-8D43-43A4-83B5-C5887650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46B870-0376-48F0-8036-EB015B76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6EF135-0E0B-4B63-941D-051092E4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0D7D4F-9A8E-46FC-AD18-E7144BE0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581F7F-E6AB-4DFA-AE6D-CF4ACD0E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8972D0-6580-4116-B159-F74802BB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54916C-0EF7-4AAA-8DF9-F000F7B3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75968D-52D3-42F4-98B7-C63510B3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158195-6D3D-4512-875C-0F54F6E4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202B8C-8BFA-4D40-9EE5-A1FB5674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1A071B-167A-45B5-813B-2100F20F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CBC5-2881-4597-AE06-01650985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27A97D-8C8D-4F56-B70B-4DECB0BC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EA5E0C-DA1B-4502-8BF6-95E49E87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EB2459-2C2A-43C8-905C-2BF3B7D7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734CEF-760E-4297-8901-97815FD6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53000C-1A63-4C1E-B17B-0A37ACFC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F97F43-FCC3-4E5B-B24A-C5D60292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BAB269-D35B-446F-BCF7-D5A2187D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3E67C9-B4E8-450E-A769-E464C990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CE802A-89FD-4E31-8A23-19B17E68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D661DC-D4AF-423F-A88C-A6A16F66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A972-005E-4473-9D38-A0F6B7E0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442423-D944-4593-8E51-A03E04B3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F6341D-E34E-4269-8F23-CF8B4546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817844-5008-4DD7-A338-57C9D25C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FD43D0-51AD-47EE-AAC0-140D39AA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505406-071B-45FF-81FC-6995E8D1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D26AB0-5C90-4303-BE91-2689ACA2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0C4EC8-D35F-456D-9F10-DFC50A81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BE95C6-AF85-47A9-95E4-0CB20FC1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F0CF8A-15B2-4D28-B1C0-5D0D8013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AFCCEE-906F-49A0-852A-08A6544A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721E-9EEF-439D-A496-2B068536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ACCC93-C8CA-412B-9F75-F0611813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5AE102-4781-4679-88B7-E201FE89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A49D54-07CF-4DE4-9D35-39F8B16E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9A0C69-0ED7-4177-ABE5-A79096D8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10253E-720A-4847-932C-A2D86FC9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B4BBE7-A546-43BF-BEAA-C83BCE51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1BD448-1865-4523-A955-855BDC00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C42178-F22F-4BF5-88A5-EEE84A8E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E66187-BEFD-4E85-94D9-CD3F9426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DD6936-178B-4789-999C-89754D1C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F675-6A88-4CC1-8323-37F34589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BA4484-C12D-4F37-91E2-FC84F425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24229D-39D1-4E88-80B8-4648CDFC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77EB8A-710B-4A83-8017-832F442C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9EEF42-C9C0-43C2-939F-CFAAB4A1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74FACE-C91E-4C7E-8DB1-7AA7828B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60DB27-1212-4E65-9024-78151786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6E8307-F9A9-4FA5-B3DE-F871E285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83B038-C84C-401D-A643-5BF2993B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A3D7BF-25D4-4E79-9D0C-CFB53564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E4DE30-9D6B-4CCA-A4B5-D75FDDF1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D3CD2-12C9-4AFB-BD05-A5D53401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0518CD-A01C-4012-859C-1D2A0BE3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80BE47-EEF8-4469-ACC5-BC521E73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D8B464-D1E1-41A2-8132-C03A6A57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B98F0-61A4-49F4-A69F-EBFD1BBF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05520-619F-4F1A-ACA5-BE04AC44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62436-76F5-476D-819E-859F1EB0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EE300-3467-4EFD-9C54-46D65E30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DC8C-57BE-4CBA-A336-04FBE40B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279EB-6B4A-4672-B078-28DF2E98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9C749-EBBE-48F6-8885-D3B68610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840BE-0388-4D0D-94D4-30413C57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8211C-0D8C-4E99-9D3F-DAD350EC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96858-02AB-4A05-9F84-4B7C19C1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2C8C1-A734-4E3D-BF28-A2383C37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0FAE5-98CC-40EF-B533-E2FBD3B8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0F639-CABA-4C8A-83E4-85E4618B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F44DD-20BC-470E-8728-B81B34F3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E173E-EEF7-47BA-8C33-0337F438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7328-2426-4B05-8632-99D9C882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25531-DB7F-4399-B810-4920E13B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CBC42-637E-4DBC-9618-37B3CEBF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46F95-6900-4AF5-9559-2ED2D1A6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4ED83-3A9E-4EBE-913E-184DA18B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194C7-A430-4442-BD2F-BA5FE3D0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4ED19-9E0B-47CB-820B-018D7C3C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19310-17F9-41AB-909B-F97D43ED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3F02E-7077-471A-948B-3645F0AE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16162-AE31-45D6-906D-3E5C08F5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4DA90-4CD0-418E-917D-37C8C9B9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664F-781A-4A41-8F05-CEE90D59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1FA46-537F-4387-9216-95C77834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C6669-DF7B-4658-8874-C7DECC1E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6005A-3957-4069-BC48-23C72214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A7982-544F-4D92-99DB-72778752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F4B6D-D90B-4C19-9EF0-E63068FB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7ED02-FA28-4294-95EC-D8548EAC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B167A-436E-4FEC-9A56-E23A5A43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EA5B9-B0E2-46CF-8C88-8AC3D48C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25212-6980-4FC4-A53B-10EDDFD7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F962C-EC2B-46D1-AA52-E022F380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6CDF-8A0E-4FCD-9A8F-FA4C7DAC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40295-49E8-4895-AEEB-02955FFD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F7704-13AD-467D-A2BA-0487518F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B4490-CAFF-48CB-A23D-E103E0A0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14178-43ED-4EF7-BC49-4D722669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F1A83-47A1-430E-921D-A54350AF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E1914-5519-45D4-B4F0-1CE5C170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8136B-C1FE-4660-AAFB-C020D858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330DB-E190-41B3-AB6A-35427C9B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F5168-787F-4A1A-BD92-B1A1F49E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B948D-B1EF-42DC-AC7A-0696867B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20BE-17B7-4B16-ADE0-817BA494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09095-850D-4D3E-B2C2-9B8598FD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9BE80-35F4-4B38-B2EE-DC1D4ADC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2082C-B0C3-461A-A91A-45C4CC92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B033E-AB8F-4594-ACDE-6E6628F9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FD849-F0DB-4749-BF15-0171E776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15DE6-6BFA-496B-86CB-EC4F78C9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3DAE3-866F-48B7-8928-0F7E371A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3A5A6-98D7-4DD2-B466-CA8EB129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43BED-C621-4895-AB50-4C9C7211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13A95-F978-4349-ABB5-FA2406A0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CC59-5AB5-44B5-9A71-07C81D4A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7D4D8-CDAE-4B72-A5C8-6950F30E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D1C13-74E8-484D-8DD3-97F33FBB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0FDF3-29A8-4D91-8281-D3F2BAEE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5B0DA-EE13-4885-BBF7-AA60C190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0C196-CBA1-48EB-8C65-8B814DD2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5E032-9726-4491-BCB5-60FA4F21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08BA2-250D-4C7B-8E14-1D11141E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BE296-6333-46C8-9916-05D6DD47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360EE-68D3-43AD-81E2-7514944C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F16CD-405F-4823-A988-EBFD1F89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5E4-CD86-4770-8344-DCB5CD1C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46494-B2A8-46FF-A7E1-360B7AD0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77DEB-7056-4508-9892-6913E1C9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CAE1D-AA78-40DA-9176-E270C8E5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ACE8B-DC82-4B22-B868-3CA6D542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3E8AF-F849-4821-935A-EB231255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29E69-4933-4D83-9D34-EA6F86F0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A6C0E-7F46-43EC-825B-C570811B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3E0AE-D1AC-4FDF-B49F-34FD3F7B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167BA-3C2D-45BE-B370-51B7321C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13B38-BE07-4ACF-B3FE-F4371EA8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30BF-5D7D-4763-8D78-1E5161D6A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D2D2-902F-445A-A06B-0FD01C3329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A35B-0F8D-4A36-A344-2EE2A98F2B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CE14-A253-4060-8881-09A44B64E2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9B4B-119B-4F2C-9571-915DBA8320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0FCD-D95B-4A24-A699-24AECC4AE9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0405-9E7E-4E3C-8899-EBEE05B78B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801D-2BD4-47CF-B5DB-8735FFE35F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8668-B667-4E40-85FE-E8FD113571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D2C2-A899-478C-A782-CEEE06BB82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EBC9-0FDD-4464-968C-44C2D2EE8B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C975-D4B4-4E8E-8787-5019E76F82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2307-F498-438F-B62D-0B3897ED91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9095-1242-494F-8C7F-AC9E0D7030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00F8-638D-4566-96EE-17B76B7D05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1C5B-10D5-4EDD-B1E9-41792B608C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3E05-2285-4237-86EE-78DAE5C169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C172-7086-4525-9CAA-7CD2216EB2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A774-6F63-4572-BF98-19688DA228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36B1-E421-4E4C-B2E4-04A4CD89C3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7613-2514-4981-B70B-0DACD6231A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684D-3F1E-4453-A8F8-0E64FAC3DB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C092-5D7F-40D5-A7AE-B75DEDCE53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8D73-3ADA-49F8-A941-3E32A7EB1F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8F3A-2DB3-475D-8287-83819A037B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6499-924B-4E06-A753-6CB57DFF4D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2418-F467-4984-A167-AFEA97F8A7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63E8-33A2-40ED-A65E-9B3C37F99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A5F3-3581-4865-9BB1-50E3536B19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F95A-AC26-4680-994E-4EE9059A1B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AF40-BB3E-4A25-A61C-6859830E89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E79F-E9BF-47FD-AD6D-9C8FFA0FB9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22F9-344C-4510-BB1A-4336604934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F56E-CEEE-44EA-B370-A4F580A06E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AC19-D8E9-4B52-BE7D-6200CB97B4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195C-857A-4B06-9E7F-9122689392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BBF1-F784-4EAE-AE2F-11095DB5F3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83C6-9A08-4F52-8FCE-504B844FD7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084D-B8D6-47E6-A59D-7A088394DF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2810-7AAF-4231-BC52-45B638F8A5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459080" y="2600280"/>
            <a:ext cx="64976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4100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7238880" cy="212400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4104" descr=""/>
          <p:cNvPicPr/>
          <p:nvPr/>
        </p:nvPicPr>
        <p:blipFill>
          <a:blip r:embed="rId3"/>
          <a:stretch/>
        </p:blipFill>
        <p:spPr>
          <a:xfrm>
            <a:off x="1547640" y="3213000"/>
            <a:ext cx="5762880" cy="2067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3995640" y="3298680"/>
            <a:ext cx="302436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4427640" y="4019400"/>
            <a:ext cx="302400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3635280" y="4738680"/>
            <a:ext cx="3024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036" name="组合 7176"/>
          <p:cNvGrpSpPr/>
          <p:nvPr/>
        </p:nvGrpSpPr>
        <p:grpSpPr>
          <a:xfrm>
            <a:off x="1892160" y="1268280"/>
            <a:ext cx="4753080" cy="3643560"/>
            <a:chOff x="1892160" y="1268280"/>
            <a:chExt cx="4753080" cy="3643560"/>
          </a:xfrm>
        </p:grpSpPr>
        <p:pic>
          <p:nvPicPr>
            <p:cNvPr id="1037" name="图片 7174" descr=""/>
            <p:cNvPicPr/>
            <p:nvPr/>
          </p:nvPicPr>
          <p:blipFill>
            <a:blip r:embed="rId2"/>
            <a:stretch/>
          </p:blipFill>
          <p:spPr>
            <a:xfrm>
              <a:off x="1974960" y="1268280"/>
              <a:ext cx="4181400" cy="21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8" name="图片 7175" descr=""/>
            <p:cNvPicPr/>
            <p:nvPr/>
          </p:nvPicPr>
          <p:blipFill>
            <a:blip r:embed="rId3"/>
            <a:stretch/>
          </p:blipFill>
          <p:spPr>
            <a:xfrm>
              <a:off x="1892160" y="3645000"/>
              <a:ext cx="4753080" cy="126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3995640" y="1370160"/>
            <a:ext cx="2376720" cy="449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3708360" y="2060640"/>
            <a:ext cx="23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6"/>
          <a:stretch/>
        </p:blipFill>
        <p:spPr>
          <a:xfrm>
            <a:off x="3635280" y="2781360"/>
            <a:ext cx="2376720" cy="449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7"/>
          <a:stretch/>
        </p:blipFill>
        <p:spPr>
          <a:xfrm>
            <a:off x="3708360" y="3673440"/>
            <a:ext cx="2735280" cy="449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8"/>
          <a:stretch/>
        </p:blipFill>
        <p:spPr>
          <a:xfrm>
            <a:off x="4067280" y="4365720"/>
            <a:ext cx="27352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47" name="图片 12290" descr=""/>
          <p:cNvPicPr/>
          <p:nvPr/>
        </p:nvPicPr>
        <p:blipFill>
          <a:blip r:embed="rId2"/>
          <a:stretch/>
        </p:blipFill>
        <p:spPr>
          <a:xfrm>
            <a:off x="1552680" y="1333440"/>
            <a:ext cx="6038640" cy="4191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4500720" y="2766960"/>
            <a:ext cx="23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4"/>
          <a:stretch/>
        </p:blipFill>
        <p:spPr>
          <a:xfrm>
            <a:off x="3851280" y="3500280"/>
            <a:ext cx="23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5"/>
          <a:stretch/>
        </p:blipFill>
        <p:spPr>
          <a:xfrm>
            <a:off x="3851280" y="4206960"/>
            <a:ext cx="23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6"/>
          <a:stretch/>
        </p:blipFill>
        <p:spPr>
          <a:xfrm>
            <a:off x="3851280" y="4911840"/>
            <a:ext cx="23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055" name="组合 11269"/>
          <p:cNvGrpSpPr/>
          <p:nvPr/>
        </p:nvGrpSpPr>
        <p:grpSpPr>
          <a:xfrm>
            <a:off x="2050920" y="765000"/>
            <a:ext cx="4753080" cy="5737320"/>
            <a:chOff x="2050920" y="765000"/>
            <a:chExt cx="4753080" cy="5737320"/>
          </a:xfrm>
        </p:grpSpPr>
        <p:pic>
          <p:nvPicPr>
            <p:cNvPr id="1056" name="图片 11267" descr=""/>
            <p:cNvPicPr/>
            <p:nvPr/>
          </p:nvPicPr>
          <p:blipFill>
            <a:blip r:embed="rId2"/>
            <a:stretch/>
          </p:blipFill>
          <p:spPr>
            <a:xfrm>
              <a:off x="2050920" y="765000"/>
              <a:ext cx="4753080" cy="29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7" name="图片 11268" descr=""/>
            <p:cNvPicPr/>
            <p:nvPr/>
          </p:nvPicPr>
          <p:blipFill>
            <a:blip r:embed="rId3"/>
            <a:stretch/>
          </p:blipFill>
          <p:spPr>
            <a:xfrm>
              <a:off x="2065320" y="3730680"/>
              <a:ext cx="4152960" cy="277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8" name="Picture 1" descr=""/>
          <p:cNvPicPr/>
          <p:nvPr/>
        </p:nvPicPr>
        <p:blipFill>
          <a:blip r:embed="rId4"/>
          <a:stretch/>
        </p:blipFill>
        <p:spPr>
          <a:xfrm>
            <a:off x="5292720" y="879480"/>
            <a:ext cx="23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5"/>
          <a:stretch/>
        </p:blipFill>
        <p:spPr>
          <a:xfrm>
            <a:off x="4716360" y="1600200"/>
            <a:ext cx="2376720" cy="449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6"/>
          <a:stretch/>
        </p:blipFill>
        <p:spPr>
          <a:xfrm>
            <a:off x="4643280" y="2320920"/>
            <a:ext cx="2376720" cy="449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7"/>
          <a:stretch/>
        </p:blipFill>
        <p:spPr>
          <a:xfrm>
            <a:off x="4716360" y="3011400"/>
            <a:ext cx="2376720" cy="449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8"/>
          <a:stretch/>
        </p:blipFill>
        <p:spPr>
          <a:xfrm>
            <a:off x="3708360" y="3760920"/>
            <a:ext cx="23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9"/>
          <a:stretch/>
        </p:blipFill>
        <p:spPr>
          <a:xfrm>
            <a:off x="3851280" y="4494240"/>
            <a:ext cx="23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10"/>
          <a:stretch/>
        </p:blipFill>
        <p:spPr>
          <a:xfrm>
            <a:off x="3708360" y="5214960"/>
            <a:ext cx="23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11"/>
          <a:stretch/>
        </p:blipFill>
        <p:spPr>
          <a:xfrm>
            <a:off x="4788000" y="5935680"/>
            <a:ext cx="23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69" name="图片 10242" descr=""/>
          <p:cNvPicPr/>
          <p:nvPr/>
        </p:nvPicPr>
        <p:blipFill>
          <a:blip r:embed="rId2"/>
          <a:stretch/>
        </p:blipFill>
        <p:spPr>
          <a:xfrm>
            <a:off x="1509840" y="2023920"/>
            <a:ext cx="6124320" cy="28101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3"/>
          <a:stretch/>
        </p:blipFill>
        <p:spPr>
          <a:xfrm>
            <a:off x="5364000" y="2771640"/>
            <a:ext cx="2376720" cy="4492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4"/>
          <a:stretch/>
        </p:blipFill>
        <p:spPr>
          <a:xfrm>
            <a:off x="4643280" y="3500280"/>
            <a:ext cx="2376720" cy="449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5"/>
          <a:stretch/>
        </p:blipFill>
        <p:spPr>
          <a:xfrm>
            <a:off x="5796000" y="4206960"/>
            <a:ext cx="23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5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076" name="组合 9220"/>
          <p:cNvGrpSpPr/>
          <p:nvPr/>
        </p:nvGrpSpPr>
        <p:grpSpPr>
          <a:xfrm>
            <a:off x="1757520" y="1125360"/>
            <a:ext cx="5628960" cy="4319640"/>
            <a:chOff x="1757520" y="1125360"/>
            <a:chExt cx="5628960" cy="4319640"/>
          </a:xfrm>
        </p:grpSpPr>
        <p:pic>
          <p:nvPicPr>
            <p:cNvPr id="1077" name="图片 9218" descr=""/>
            <p:cNvPicPr/>
            <p:nvPr/>
          </p:nvPicPr>
          <p:blipFill>
            <a:blip r:embed="rId2"/>
            <a:stretch/>
          </p:blipFill>
          <p:spPr>
            <a:xfrm>
              <a:off x="1914480" y="1125360"/>
              <a:ext cx="5315040" cy="22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图片 9219" descr=""/>
            <p:cNvPicPr/>
            <p:nvPr/>
          </p:nvPicPr>
          <p:blipFill>
            <a:blip r:embed="rId3"/>
            <a:stretch/>
          </p:blipFill>
          <p:spPr>
            <a:xfrm>
              <a:off x="1757520" y="3254400"/>
              <a:ext cx="5628960" cy="2190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9" name="Picture 1" descr=""/>
          <p:cNvPicPr/>
          <p:nvPr/>
        </p:nvPicPr>
        <p:blipFill>
          <a:blip r:embed="rId4"/>
          <a:stretch/>
        </p:blipFill>
        <p:spPr>
          <a:xfrm>
            <a:off x="4932360" y="1211400"/>
            <a:ext cx="23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5"/>
          <a:stretch/>
        </p:blipFill>
        <p:spPr>
          <a:xfrm>
            <a:off x="5148360" y="1930320"/>
            <a:ext cx="23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6"/>
          <a:stretch/>
        </p:blipFill>
        <p:spPr>
          <a:xfrm>
            <a:off x="5724360" y="2665440"/>
            <a:ext cx="2376720" cy="4492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7"/>
          <a:stretch/>
        </p:blipFill>
        <p:spPr>
          <a:xfrm>
            <a:off x="5003640" y="3371760"/>
            <a:ext cx="2376720" cy="4492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8"/>
          <a:stretch/>
        </p:blipFill>
        <p:spPr>
          <a:xfrm>
            <a:off x="4284720" y="4091040"/>
            <a:ext cx="23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9"/>
          <a:stretch/>
        </p:blipFill>
        <p:spPr>
          <a:xfrm>
            <a:off x="4140360" y="4811760"/>
            <a:ext cx="23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7" name="图片 1" descr=""/>
          <p:cNvPicPr/>
          <p:nvPr/>
        </p:nvPicPr>
        <p:blipFill>
          <a:blip r:embed="rId1"/>
          <a:stretch/>
        </p:blipFill>
        <p:spPr>
          <a:xfrm>
            <a:off x="149400" y="1092240"/>
            <a:ext cx="88452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0" name="图片 1" descr=""/>
          <p:cNvPicPr/>
          <p:nvPr/>
        </p:nvPicPr>
        <p:blipFill>
          <a:blip r:embed="rId1"/>
          <a:stretch/>
        </p:blipFill>
        <p:spPr>
          <a:xfrm>
            <a:off x="85680" y="2403360"/>
            <a:ext cx="897264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5:21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